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68C-A9E5-4089-B8B4-63EE9F4E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D51-E4C5-43EC-B27E-FBCD9537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5EB-D054-4CEC-8464-84866982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58E-B2E8-4F49-AD18-B03E7B91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4CE-2491-4F92-901E-DE069AC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C91-2832-467C-A44E-9B37AA0C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DF3-A23D-4873-B496-2EABC920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A90-6B8C-48EB-AE86-77B55BE1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5ED-F83A-406E-9ED7-9333701E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36F-A4F6-464F-B607-A800672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3A3-4FE2-4725-9701-66CCF515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0E4-F48D-4FAF-A244-7944962F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CF3EC-CFD1-40F7-B988-AF1ADF6C9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28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16000" y="1185840"/>
            <a:ext cx="594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708bab"/>
                </a:solidFill>
                <a:latin typeface="AusPROBE"/>
              </a:rPr>
              <a:t>Input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48000" y="2987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OIS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341964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76720" y="4068720"/>
            <a:ext cx="1655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6360" y="4500720"/>
            <a:ext cx="8632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36360" y="4500720"/>
            <a:ext cx="1366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529272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529272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72000" y="5292720"/>
            <a:ext cx="201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Input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247640" y="4500720"/>
            <a:ext cx="5050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61080" y="4429080"/>
            <a:ext cx="2232000" cy="7905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5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6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7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8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6360" y="5651640"/>
            <a:ext cx="18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4000" y="6443640"/>
            <a:ext cx="22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mmand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1080" y="219564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195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45080" y="2195640"/>
            <a:ext cx="2520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Joysticks/Gamep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11640" y="2556000"/>
            <a:ext cx="1008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96000" y="2556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544720" y="2556000"/>
            <a:ext cx="1079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njamin Knecht</dc:creator>
  <dc:description/>
  <dc:language>en-US</dc:language>
  <cp:lastModifiedBy>Grieder</cp:lastModifiedBy>
  <dcterms:modified xsi:type="dcterms:W3CDTF">2008-05-28T21:53:36Z</dcterms:modified>
  <cp:revision>2</cp:revision>
  <dc:subject/>
  <dc:title>pps07_template</dc:title>
</cp:coreProperties>
</file>