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FD5-A23A-4E75-A5E8-74B41805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19A-8085-4DBE-8839-5FD07E61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133-20D0-45E0-851D-A66D45C0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481-42FF-4566-8A50-7FD127B1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CC9-7866-43DF-89AD-16A38866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79A-21A8-4C4A-BE6F-CC64B365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84D-5B23-4FF9-878D-60FF0861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B56-0533-474E-BE3D-0DAFEF8B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C58-7C8A-4BC8-9199-CB0B71A2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7A6-1A9C-4CF2-A840-84B5431D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D99-3A7F-4334-8787-24A5D36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7B0-718F-4DF3-B4D7-8A99CFA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A4FE6-BB9B-488A-8B37-CB13E89DC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28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16000" y="1185840"/>
            <a:ext cx="594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708bab"/>
                </a:solidFill>
                <a:latin typeface="AusPROBE"/>
              </a:rPr>
              <a:t>Input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48000" y="2987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I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341964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76720" y="4068720"/>
            <a:ext cx="165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6360" y="4500720"/>
            <a:ext cx="8632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36360" y="4500720"/>
            <a:ext cx="1366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529272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29272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2000" y="5292720"/>
            <a:ext cx="20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Inpu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247640" y="4500720"/>
            <a:ext cx="5050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1080" y="4429080"/>
            <a:ext cx="2232000" cy="7905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5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6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7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6360" y="5651640"/>
            <a:ext cx="18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4000" y="6443640"/>
            <a:ext cx="22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mmand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1080" y="219564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195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5080" y="2195640"/>
            <a:ext cx="252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Joysticks/Gamep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1640" y="255600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2556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44720" y="2556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 Knecht</dc:creator>
  <dc:description/>
  <dc:language>en-US</dc:language>
  <cp:lastModifiedBy>Grieder</cp:lastModifiedBy>
  <dcterms:modified xsi:type="dcterms:W3CDTF">2008-05-28T21:53:36Z</dcterms:modified>
  <cp:revision>2</cp:revision>
  <dc:subject/>
  <dc:title>pps07_template</dc:title>
</cp:coreProperties>
</file>